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161-A3E3-4D52-B46A-B1FFF4BB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C15-F340-4D2B-9D5C-2DC4DD8F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C80-268B-49D9-8B6D-0A7A7044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DCC-A1DA-4BC6-B4DD-184B4CAF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356E-AFA7-42AE-90A3-10436F3B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6386-F3BE-4431-8F36-054EFF38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7EDE-248A-4CA1-9268-1D7AF1A4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D1A5-62B5-4D91-9BD0-75AD95E6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1FED-CA79-4A70-A7E2-A7529D97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FD95-59FF-4AE1-B341-278288FB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DBE5-6325-4AF3-8A6D-06E7967D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E4E-3288-404C-8140-57ADE77F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470A-7D89-469E-8ADE-DD23D5E8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7496-6F4A-49C3-AB95-1316A05B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F2B8-9C4A-4F7A-B418-2D004464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554E-F4E1-4E17-A56B-7590EF07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1862-D6C8-477B-A9CD-1A82F953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AB6-B10C-44EB-B345-FB017103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3C4-CCFE-43B3-97D5-5997FF20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438-B16A-40F3-822E-C4ECE5FE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84D-C3D1-4014-8F02-EF53C0AF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720-6798-476C-87CE-66BDD810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8F9-0A29-46D2-9BF6-DBC3C36D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2A4-274F-46A8-A660-45719CF9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5752-2B40-494B-B906-0E1226EAE97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32AE-576C-45EF-BCBF-3BDEE8BEB78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tto.buffalo.edu/registered/ATBasics/Foundation/Laws/atlegislation.php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79712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sistive Technology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ols That Benefit ALL Learn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43430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By Lourdes Day, FDLRS Technology Specialist and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Local Assistive Technology Team (LAT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62120" y="5867280"/>
            <a:ext cx="80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lorida Diagnostic and Learning Resources System (FDLRS) is funded through IDEA, Part B and State General Revenue Funds to provide support services to Florida’s Exceptional Student Education Progra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  <a:ea typeface="Arial"/>
              </a:rPr>
              <a:t>AT Referral for ESE Students in Polk or Hardee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 student may be referred by a teacher, therapist or parent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06800" indent="-4068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e school support team (i.e.… teacher, SLP, ESE Facilitator, parent, OT or PT) determines FIRST if the need can be met at the school level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06800" indent="-4068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 referral is submitted to the Local Assistive Technology Team (LATS)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06800" indent="-4068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e LATS will review the case and either request further information from the school or set up an appointment to evaluate the student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The Local Assistive Technology Team (LATS)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Polk County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Joanne Stidham- Speech/Language Pathologist (LEAD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Lorrie Prince –Speech/Language Diagnostician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Judy Sanders- Occupational Therapist –ESE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Lourdes Day- Technology Specialist-FDLRS Polk/Hardee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ardee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eresa Hall- District Contact (Lead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Shannon Robertson-Teacher of the Visually Impaired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olleen Carey- Occupational Therapist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Nancy Parker- Regional LA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Contacting the LAT tea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LAT team will evaluate, consult and train school staff. Contact them at :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Polk ESE: 863-534-0930 (Joanne Stidham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FDLRS: 863-647-4258 (Lourdes Day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ardee ESE: 863-773-2600 (Teresa Hall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8" name="Picture 4" descr="bd04921_"/>
          <p:cNvPicPr/>
          <p:nvPr/>
        </p:nvPicPr>
        <p:blipFill>
          <a:blip r:embed="rId1"/>
          <a:stretch/>
        </p:blipFill>
        <p:spPr>
          <a:xfrm>
            <a:off x="7315200" y="152280"/>
            <a:ext cx="1320840" cy="1765440"/>
          </a:xfrm>
          <a:prstGeom prst="rect">
            <a:avLst/>
          </a:prstGeom>
          <a:ln w="0">
            <a:noFill/>
          </a:ln>
        </p:spPr>
      </p:pic>
      <p:sp>
        <p:nvSpPr>
          <p:cNvPr id="129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952524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Consideration</a:t>
            </a:r>
            <a:endParaRPr b="0" lang="en-US" sz="4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sk the right questions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specifically does the student need to do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specific 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IEP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 goal must the child meet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AT is the student currently using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accommodations or modification strategies have been tried?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2" name="Picture 4" descr="bd00028_"/>
          <p:cNvPicPr/>
          <p:nvPr/>
        </p:nvPicPr>
        <p:blipFill>
          <a:blip r:embed="rId1"/>
          <a:stretch/>
        </p:blipFill>
        <p:spPr>
          <a:xfrm>
            <a:off x="7848720" y="1447920"/>
            <a:ext cx="1062000" cy="1041120"/>
          </a:xfrm>
          <a:prstGeom prst="rect">
            <a:avLst/>
          </a:prstGeom>
          <a:ln w="0">
            <a:noFill/>
          </a:ln>
        </p:spPr>
      </p:pic>
      <p:sp>
        <p:nvSpPr>
          <p:cNvPr id="133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ccommodation vs. Modifi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56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ccommodation is changing </a:t>
            </a:r>
            <a:r>
              <a:rPr b="1" lang="en-US" sz="30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HOW</a:t>
            </a: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 the student is instructed and assessed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X-Setting, time, length of assignment, 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General diploma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Modification is changing </a:t>
            </a:r>
            <a:r>
              <a:rPr b="1" lang="en-US" sz="30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WHAT</a:t>
            </a: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 the student is expected to learn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X-4</a:t>
            </a:r>
            <a:r>
              <a:rPr b="0" lang="en-US" sz="2800" spc="-1" strike="noStrike" baseline="30000">
                <a:solidFill>
                  <a:srgbClr val="080808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grade math in an Algebra clas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pecial diploma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Learn more about accommodation strategies-Click below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http://www.cpt.fsu.edu/ese/in/acom/needs/nslist.htm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l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973880" y="1219320"/>
            <a:ext cx="48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ood Strategies + AT = Succes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T Purchase for ESE Studen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e school district is required to provide assistive technology if it is necessary to meet IEP goal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 device may go home if the IEP team determines that it is necessary to receive FAPE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ome students may receive funds from private insurance or Medicaid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se devices are then the property of the family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0" name="Picture 4" descr="bd04896_"/>
          <p:cNvPicPr/>
          <p:nvPr/>
        </p:nvPicPr>
        <p:blipFill>
          <a:blip r:embed="rId1"/>
          <a:stretch/>
        </p:blipFill>
        <p:spPr>
          <a:xfrm>
            <a:off x="4419720" y="5867280"/>
            <a:ext cx="1120680" cy="711360"/>
          </a:xfrm>
          <a:prstGeom prst="rect">
            <a:avLst/>
          </a:prstGeom>
          <a:ln w="0">
            <a:noFill/>
          </a:ln>
        </p:spPr>
      </p:pic>
      <p:sp>
        <p:nvSpPr>
          <p:cNvPr id="141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05840"/>
            <a:ext cx="906768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AT Acquisition for Non ESE Studen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School technology fund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Other school fund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Grants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Community group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Fund Raiser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4" name="Picture 5" descr="bd18043_"/>
          <p:cNvPicPr/>
          <p:nvPr/>
        </p:nvPicPr>
        <p:blipFill>
          <a:blip r:embed="rId1"/>
          <a:stretch/>
        </p:blipFill>
        <p:spPr>
          <a:xfrm>
            <a:off x="5867280" y="2666880"/>
            <a:ext cx="2586240" cy="3006720"/>
          </a:xfrm>
          <a:prstGeom prst="rect">
            <a:avLst/>
          </a:prstGeom>
          <a:ln w="0">
            <a:noFill/>
          </a:ln>
        </p:spPr>
      </p:pic>
      <p:sp>
        <p:nvSpPr>
          <p:cNvPr id="145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Group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Two Major Groups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ccess Technology-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devices that help a student access instructional materia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42040" indent="-3733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an be used by all studen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2" marL="1123200" indent="-1872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lternate keyboar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123200" indent="-1872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olor filters, software…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daptive Technology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devices which help an individual move about, communicate or control their environment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42040" indent="-3733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ostly used by students with a disability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2" marL="1123200" indent="-1872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evices(Communication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123200" indent="-1872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Teletypewri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Ran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need for AT is determined on a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case by case basi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; and ensures access to a free and appropriate public education as determined by the IEP team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 student may benefit from: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Lite/Low Tech Solutio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igh Tech Solutio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Lite/Low Tech Ran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Lite tech (LoTTIE Kit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sily accessibl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w cos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by Pee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ww.onionmountaintech.com (website for lite tech products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Examples: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lor filters, reading guid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lectronic dictionari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99172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Definition (AT)</a:t>
            </a:r>
            <a:endParaRPr b="0" lang="en-US" sz="4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y item, piece of equipment or product system, whether acquired commercially or off the shelf, modified, or customized, that is used to increase, maintain, or improve the function capabilities of a child with a disability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IDEA Section 60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High Tech Solu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igh Tech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y task specific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er cos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 makes student feel “different” from pee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Example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mputers, scanners, voice recognition softwar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Individualized communication devic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Can Hel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Reading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Writing(Motor)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Writing (Composing)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Math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Organizing/Studying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mputer Acces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mmunication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elf Help/Daily Living Skill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859644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Evaluation, Practice, Opportunities, and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T should be evaluated in the child’s natural setting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Success of AT comes with daily opportunities to use the 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T must be an integral part of the curriculum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technology needs to be continually monitored for its effectivenes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ebsite Referenc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te Technology Solution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onionmountaintech.com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Student Needs &amp; Solution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Arial"/>
              </a:rPr>
              <a:t>http://www.cpt.fsu.edu/ese/in/acom/needs/nslist.html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T Basics and Legis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ssistive Technology Basics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aten.scps.k12.fl.us/resources.html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gpat.org/Resources%20Main.htm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atto.buffalo.edu/registered/ATBasics/Foundation/intro/index.php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wati.org/index.htm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Legislation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atto.buffalo.edu/registered/ATBasics/Foundation/Laws/atlegislation.php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gpat.org/Resources%20Main.htm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Servi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y service that directly assists a child with a disability in the selection, acquisition, or use of an assistive technology device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hat this mea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y tool or device that a student with a disability uses to do a task that he/she could not do otherwise without it. It can make the task easier, faster or done in a better way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For some students AT is the only way for them to access the curriculum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device can be “lite” tech such as a pencil grip or as high tech as a computer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is a tool. It will never replace good teaching. It serves to give struggling students and those with a disability a way to be successful with the curriculum.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ho benefits from Assistive Tec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ny student with a disability from mild to sever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ny student with reading, writing, math, communication, vision, hearing, or motor problem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SOL student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tudents with 504 pla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truggling students who do not qualify for ESE servic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8" name="Picture 4" descr="bd07223_"/>
          <p:cNvPicPr/>
          <p:nvPr/>
        </p:nvPicPr>
        <p:blipFill>
          <a:blip r:embed="rId1"/>
          <a:stretch/>
        </p:blipFill>
        <p:spPr>
          <a:xfrm>
            <a:off x="7086600" y="3200400"/>
            <a:ext cx="1819440" cy="171612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Did you know </a:t>
            </a:r>
            <a:r>
              <a:rPr b="0" lang="en-US" sz="3600" spc="-1" strike="noStrike">
                <a:solidFill>
                  <a:srgbClr val="080808"/>
                </a:solidFill>
                <a:latin typeface="Times New Roman"/>
              </a:rPr>
              <a:t>that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the State of Florida allows a variety of assistive technology tools to be used on the FCAT by students with disabilities?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14400" y="4114800"/>
            <a:ext cx="7391520" cy="1861560"/>
          </a:xfrm>
          <a:prstGeom prst="rect">
            <a:avLst/>
          </a:prstGeom>
          <a:noFill/>
          <a:ln w="41400">
            <a:solidFill>
              <a:srgbClr val="151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ese tools must be listed on the students IEP </a:t>
            </a:r>
            <a:r>
              <a:rPr b="1" lang="en-US" sz="3600" spc="-1" strike="noStrike" u="sng">
                <a:solidFill>
                  <a:srgbClr val="2a3d7a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be used daily as part of their instructional strategie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Legal Responsibilities for E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school district is mandated by state and federal law (IDEA) to determine if a student with a disability needs assistive technology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fter an AT evaluation, the final determination of AT use is made jointly by the IEP Team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5" name="Picture 4" descr="bd04900_"/>
          <p:cNvPicPr/>
          <p:nvPr/>
        </p:nvPicPr>
        <p:blipFill>
          <a:blip r:embed="rId1"/>
          <a:stretch/>
        </p:blipFill>
        <p:spPr>
          <a:xfrm>
            <a:off x="7848720" y="5398920"/>
            <a:ext cx="1251000" cy="145908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T Legis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Tech Act (PL 100 407) Technology Related Assistance for Individuals with Disabilities Act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DA (PL 101-336) Americans with Disabilities Act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IDEA-Individual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with Disabilities Education Act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*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For more legislation Information click on the link below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1"/>
              </a:rPr>
              <a:t>http://atto.buffalo.edu/registered/ATBasics/Foundation/Laws/atlegislation.php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19:48:03Z</dcterms:created>
  <dc:creator>lday</dc:creator>
  <dc:description/>
  <dc:language>en-US</dc:language>
  <cp:lastModifiedBy>lourdes.day</cp:lastModifiedBy>
  <dcterms:modified xsi:type="dcterms:W3CDTF">2008-06-18T20:07:08Z</dcterms:modified>
  <cp:revision>143</cp:revision>
  <dc:subject/>
  <dc:title>Assistive Technology</dc:title>
</cp:coreProperties>
</file>